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34BD-B3FF-4235-BD57-B443A516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135-B4A5-40AB-AD58-14317748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6E3-F84B-4DE8-8B2F-37F2F8BA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BFA-5BB6-489C-93A2-D411E4C5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D0655-A797-4C98-9DB7-37A4FE41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5413B-F669-4CCD-B6BD-BE222FD5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A049C-14C5-48CE-8184-A0B5B95D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B0467-6B5D-4464-8CBF-B73DA667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26D8E-9354-4645-8168-8E17C404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34E18-E58B-436C-B1FE-3D5020B4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1DE39-6AB8-47BC-8D79-B2F820CB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368-6BCF-416E-8DD8-878E3071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1F15C-5B53-4600-88E1-ACCF3AA1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2AC4D-29D2-4F40-A59D-5FED03FA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1F4E6-0F97-4573-8E07-B02645C2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B87C1-CA03-4BC5-999F-E0B32950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2A73E-7768-459B-BF90-81ABE797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0D6-D2B4-48CD-AE2A-1AF5D580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695-D7E0-42D9-A5DF-8047A78D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A55-DA04-4348-97C7-89E77A75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42D-C0D6-4C11-A7D0-3FC94900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CAE-AA6F-4124-80B4-FB1902E7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B491-5CD2-49E7-B65B-ECC152D5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112-0D95-47DB-BE1B-02C65F83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44AE-EB83-4E80-90BA-3B1D2AF85A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8F02-0484-4A99-8F80-64F386183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нформационна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ультура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 – не владею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- плохо владею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– владею на среднем уровне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-  хорошо владею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600200"/>
          <a:ext cx="8435880" cy="4629240"/>
        </p:xfrm>
        <a:graphic>
          <a:graphicData uri="http://schemas.openxmlformats.org/drawingml/2006/table">
            <a:tbl>
              <a:tblPr/>
              <a:tblGrid>
                <a:gridCol w="4254480"/>
                <a:gridCol w="1228680"/>
                <a:gridCol w="1152720"/>
                <a:gridCol w="934920"/>
                <a:gridCol w="865080"/>
              </a:tblGrid>
              <a:tr h="16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менова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ш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ов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ле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хрян 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ш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кова В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В навыках пользования различными техническими устройствами – от телефона до ПК и К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В способности владеть информационными технологиям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В умении извлекать информацию из электронных коммуникаци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В умении представить информации в понятном виде и правильно её использовать с максимальным эффекто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В знании различных методов обработки информаци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В умении работать с разными видами информаци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(67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(61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(61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(56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ащиеся нашей группы владеют информационной культурой на среднем уровне. В связи с переходом к информационному обществу к общей культуре человека добавилась еще одна категория – информационная. Поэтому на уроках информатики мы как раз и будем формировать и повышать уровень информационной культу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ультура человека определяетс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наниями, умениями, профессиональными навык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ровнем интеллектуального, эстетического и нравственного развит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особами и формами взаимного общения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Личная культура человека определяетс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ровнем его умственного развит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арактером его профессиональной и творческ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значит, что чем больше человек развивает свои умственные способности, чем больше он думает, размышляет, тем больше повышается уровень его личной культуры, и человек, занимающийся искусством или наукой должен иметь очень высокий уровень культуры, что совсем не обязательно для человека физического тру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ставим себе человека, владеющего информационной культур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429400" cy="666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нформационная культура -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умение целенаправленно работать с информацией и использовать для её получения, обработки и передачи компьютерную информационную технологию, современные технические средства и мет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связи с этим ИК человека должна проявляться в следующе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В навыках использования различными техническими устройствами – от телефона до ПК и К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В способности владеть информационными технолог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В умении извлекать информацию из электронных коммуникац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В умении представить информацию в понятном виде и правильно её использовать с максимальным эффект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В знании различных методов обработки информ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 В умении работать с разными видами информ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ведём исследов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акой степени каждый из нас соответствует образу человека, владеющего информационной культур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23:35:22Z</dcterms:created>
  <dc:creator>Челядина</dc:creator>
  <dc:description/>
  <dc:language>en-US</dc:language>
  <cp:lastModifiedBy>Челядина</cp:lastModifiedBy>
  <dcterms:modified xsi:type="dcterms:W3CDTF">2009-05-02T01:38:41Z</dcterms:modified>
  <cp:revision>2</cp:revision>
  <dc:subject/>
  <dc:title>Информационная </dc:title>
</cp:coreProperties>
</file>